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841-8907-42CF-BA21-7ACF7725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102-0DCD-497D-BAAF-BC1A397C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F51-A1A6-4900-BE45-7210CC8E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8F4-3A87-48F6-878C-5A1F47BF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DAA-6DFE-4AEC-B923-E20A2F9D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512-3FB5-4B66-905F-3FAABC0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8DB-64C1-400F-8DE6-CA4E959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0DD-3296-464E-A4E5-E5F0F02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6F9-ECC8-498C-A2BD-7FF5293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DB-7C01-4FA1-B6C0-E7224E0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2B7-69A0-4200-8062-F3DD830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6E7-5436-473D-9467-E427E8D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E6F2-BB5F-4B85-A569-D0D0D2498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ving System of Equations with 3 Variables by Substit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62120" y="33526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+ y + z = 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   + 2z  =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+ y – z = 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e by Substitu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42840" y="1295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+ y + z =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   + 2z  =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2x + y – z = -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943600" y="12952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   + 2z  =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638680" y="23623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(-2z + 5) 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+ y – z = -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594360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= -2z +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6477120" y="2743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4z + 10 + y –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80880" y="27432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(-2z + 5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y + z =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731520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y – 5z = 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143000" y="31240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y – z = 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581280" y="4191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y – 5z = 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657600" y="35812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-1(y – z = -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3809880" y="38862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y + z =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2"/>
          <p:cNvSpPr/>
          <p:nvPr/>
        </p:nvSpPr>
        <p:spPr>
          <a:xfrm>
            <a:off x="3276720" y="457200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114800" y="4572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4z = 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343400" y="4952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z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609480" y="4495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x    + 2(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)  =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1143000" y="48769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+ 4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60020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70ff"/>
                </a:solidFill>
                <a:latin typeface="Arial"/>
              </a:rPr>
              <a:t>x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6248520" y="44956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y +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6553080" y="48769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y = -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410080" y="579132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Check: 2(</a:t>
            </a:r>
            <a:r>
              <a:rPr b="1" lang="en-US" sz="1800" spc="-1" strike="noStrike">
                <a:solidFill>
                  <a:srgbClr val="297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0e500"/>
                </a:solidFill>
                <a:latin typeface="Arial"/>
              </a:rPr>
              <a:t> = -1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7010280" y="533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(1, -1,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25:10Z</dcterms:created>
  <dc:creator>Sys Admin</dc:creator>
  <dc:description/>
  <dc:language>en-US</dc:language>
  <cp:lastModifiedBy>Admin</cp:lastModifiedBy>
  <dcterms:modified xsi:type="dcterms:W3CDTF">2011-11-02T22:53:58Z</dcterms:modified>
  <cp:revision>23</cp:revision>
  <dc:subject/>
  <dc:title>Solving System of Equations with 3 Variables</dc:title>
</cp:coreProperties>
</file>